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F01-D557-4BA9-B43F-6ECF01C3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61F-17AC-41B8-A6C4-F455BA8D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FB2-AF77-4D88-9968-979B2FAD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3E3-5B93-4DE5-94CA-FD7FF00F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265-E654-4E23-8D7E-0CA0DA3B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DA68-862B-4A1C-891F-908653CC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A64D-1DE1-4295-81DD-16E6C95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359-52C6-4890-A616-BF4D0BE7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E72-E306-4EE5-89A0-8F1EFB43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894-27C7-4D97-B815-B2483E1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FC5-2DF4-43FE-BB2D-A5DE0C5B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348-75FB-4B0C-8A3D-025DC1D5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36E8-5C75-4816-BEAB-EE77B264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96D-2276-454A-BCB0-0B4AAF8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58D3-7457-4525-919D-F5A6101C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3D65-BF22-4606-870F-D6D9FE2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B2B7-D933-4AFD-97C1-9119475D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D0A-74F4-44C7-ACDC-F17E64F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433-365E-40CC-BAA7-9FA285D7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E3A-CD25-46FB-B9FC-7F2A9D29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024-D44F-458D-8D5B-93F252E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BFD-D78E-413F-9928-4FB79CE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990-0FFB-4428-A73A-0A12A53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99D-0AFF-4F39-BF29-4191499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a.net:8080/mrtg/kinnegad.inex.html" TargetMode="External"/><Relationship Id="rId2" Type="http://schemas.openxmlformats.org/officeDocument/2006/relationships/hyperlink" Target="http://www.hea.net:8080/mrtg/kinnegad.inex.html" TargetMode="External"/><Relationship Id="rId3" Type="http://schemas.openxmlformats.org/officeDocument/2006/relationships/hyperlink" Target="http://www.hea.net:8080/mrtg/kinnegad.in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ernet Connectivity out of Irela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e Armst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tali Pan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nan Moria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bone - European Backb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81080" y="1981080"/>
          <a:ext cx="48880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4888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pics Cover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ne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-15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cero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EA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 Research Net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et connectivity to Third Level instit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 member instit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 Mbps link to Ten-15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Mbps link to JA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4Mbps link to UU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role in development of IN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ously ISPs routed though New Y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connect Irish IS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Ps must have independent external connectiv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ically to MAE-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n-155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gest Pan-European Net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ing research instit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aces Ten-3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5 Megabits/sec across 16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s in Ireland through HEA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Arial Unicode MS"/>
                <a:ea typeface="Arial Unicode MS"/>
              </a:rPr>
              <a:t>Traceroute from www.infn.i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ceroute to 212.2.170.75 (212.2.170.75), 30 hops max, 40 byte packe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  gw-lanserver (131.154.1.9)  1 ms  1 ms  1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  rc-cnaf.bo.garr.net (193.206.128.17)  2 ms  2 ms  1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  rt-rc-2.bo.garr.net (193.206.134.157)  2 ms  2 ms  2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  mi-bo-2.garr.net (193.206.134.5)  7 ms  7 ms  7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  garr.it.ten-155.net (212.1.196.25)  8 ms  9 ms  8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  it-se.se.ten-155.net (212.1.192.94)  61 ms  62 ms  61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  stockholm5.se.att-unisource.net (212.1.194.26)  63 ms  62 ms  62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  Fddi10-0.GW2.STK2.Alter.Net (194.68.128.23)  63 ms  63 ms  63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9  431.ATM6-0-0.CR1.STK2.Alter.Net (146.188.5.77)  63 ms  63 ms  63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0  219.ATM8-0-0.CR1.LND3.Alter.Net (146.188.6.146)  98 ms  99 ms  97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1  160.ATM9-0-0.CR1.DUB1.Alter.Net (146.188.2.225)  107 ms  110 ms  109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2  311.ATM8-0-0.GW1.DUB1.Alter.Net (146.188.2.162)  109 ms  108 ms  109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3  Ocean-gw.customer.ALTER.NET (146.188.35.154)  110 ms  111 ms  109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4  212.2.162.193 (212.2.162.193)  81 ms  81 ms  81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5  212.2.162.74 (212.2.162.74)  80 ms  81 ms  80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6  212.2.170.75 (212.2.170.75)  206 ms  200 ms  211 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Arial Unicode MS"/>
                <a:ea typeface="Arial Unicode MS"/>
              </a:rPr>
              <a:t>Traceroute from Par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ceroute to 212.2.170.75 (212.2.170.75), 30 hops max, 40 byte packe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  cisco.brainstorm.fr (193.56.58.254)  3.478 ms  2.463 ms  2.361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  194.51.174.13 (194.51.174.13)  86.620 ms  24.537 ms  29.521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  archives-villette.grolier.fr (194.117.192.118)  37.371 ms  28.955 ms  24.243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  ARC4-S-5-1-1.rain.fr (195.101.9.217)  24.761 ms  36.872 ms  31.729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  RASG2-POS-1-2.rain.fr (194.51.221.73)  37.529 ms  28.486 ms  24.079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  RBS2-p4-0-0.rain.fr (194.250.88.134)  39.473 ms  136.653 ms  36.373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  gip-raspail-1-fastethernet0-0.gip.net (204.59.18.193)  38.282 ms  115.939 ms  250.552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  Serial2-7.BR1.PAR2.ALTER.NET (146.188.32.85)  39.010 ms  38.633 ms  32.683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9  103.at-1-0-0.XR2.PAR2.Alter.Net (146.188.11.122)  40.843 ms  41.208 ms  25.318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0  194.ATM1-0-0.CR2.PAR2.Alter.Net (146.188.10.78)  101.687 ms  116.918 ms  102.184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1  218.ATM5-0-0.CR2.LND3.Alter.Net (146.188.6.178)  56.903 ms  112.357 ms  93.712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2  160.ATM8-0-0.CR2.DUB1.Alter.Net (146.188.2.237)  131.464 ms  131.569 ms  121.204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3  412.ATM9-0-0.GW1.DUB1.Alter.Net (146.188.3.18)  135.848 ms  111.102 ms  134.320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4  Ocean-gw.customer.ALTER.NET (146.188.35.154)  66.616 ms  65.623 ms  59.943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5  212.2.162.193 (212.2.162.193)  52.636 ms  63.641 ms  195.615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6  212.2.162.74 (212.2.162.74)  52.349 ms  63.396 ms  59.805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7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12.2.170.75 (212.2.170.75)  191.593 ms  196.584 ms  187.404 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EAnet - UUnet: 24Mbps (NY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2286000"/>
          <a:ext cx="77724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7724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INEX (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Esat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)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 2048 kbps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 (Dublin)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x Speed: 256.0 kBytes/s (propPointToPointSeri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29000"/>
            <a:ext cx="7238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02:27:28Z</dcterms:created>
  <dc:creator>Compaq</dc:creator>
  <dc:description/>
  <dc:language>en-US</dc:language>
  <cp:lastModifiedBy>J.K.Vij</cp:lastModifiedBy>
  <dcterms:modified xsi:type="dcterms:W3CDTF">2000-02-28T15:35:09Z</dcterms:modified>
  <cp:revision>2</cp:revision>
  <dc:subject/>
  <dc:title>Internet Connectivity out of Ireland</dc:title>
</cp:coreProperties>
</file>