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3.png" ContentType="image/png"/>
  <Override PartName="/ppt/media/image1.wmf" ContentType="image/x-wmf"/>
  <Override PartName="/ppt/media/image9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81A-DB6C-4042-8680-591BAFCC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C72-1827-4347-B52A-1D857AA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BE-C0AD-44C8-BAA9-8ECD6200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A7-B64B-4634-A180-14CC96D3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852-D203-4344-838F-767B9D74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1A53-13BD-408B-B123-4A0A963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6013-1F79-4347-A834-3E6F00F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983D-5C7E-4747-82E5-E56B231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70E3-0B14-497E-80EF-575C455E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95E4-0A68-4042-8AD9-8B8FED6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143-784C-4B7C-9D7E-B04CBC6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C66-79DF-4DB7-B264-5ECAFCD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EBE6-6066-47F8-8933-7A087B5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3C5-6881-4489-B875-6801E66F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1000-14E2-479F-9812-A37FEE1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BFC-0754-4A5B-B1EF-DDB88C6B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6C0-C7C9-4E4A-BD28-DADBFF31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A43-3810-4B59-A944-5942F82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29A-28B5-463E-9254-72E29A67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06-72FE-47E2-9926-F5C38D5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894-01C5-4A37-A39B-22E62E1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03A-5137-45E7-A3E3-13D86D7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B8B-3463-4AD2-AB5E-1121E38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B89-93E4-44D9-8797-290CD81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7C0-11FA-4AAF-9A2C-8D2313DF0C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8FA-BE9A-4463-B541-1AA461364F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bcbcb"/>
                </a:solidFill>
                <a:latin typeface="Times New Roman"/>
              </a:rPr>
              <a:t>How is broadband provided?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roadband is essentially a high-speed telecommunications link. It can be provid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ia optical fibre networks where light is used to transmit signal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ia satellites and high-speed radio technology (wireless broadban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ia TV cable systems, using cable modem connecto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ia the ordinary copper telephone line, using advanced technologies      called ISDN, HDSL and ADS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minimum capacity for broadband connections, and that most commonly provided, is 2 Mbit/s. Although this capacity is adequate for most of today’s applications, many customers are now demanding increased bandwidth of 34 Mbit/s, 155 Mbit/s or high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94" descr=""/>
          <p:cNvPicPr/>
          <p:nvPr/>
        </p:nvPicPr>
        <p:blipFill>
          <a:blip r:embed="rId1"/>
          <a:stretch/>
        </p:blipFill>
        <p:spPr>
          <a:xfrm>
            <a:off x="4113360" y="457200"/>
            <a:ext cx="503064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FGB_SM_docking_graphic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733560" cy="2833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45160" y="76500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pace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Fibre 1(&lt;1Gbit)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133720"/>
          <a:ext cx="7207200" cy="44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20720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5d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Fibre 2(2.5 Gbit)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95400" y="2135160"/>
          <a:ext cx="7202520" cy="43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135160"/>
                    <a:ext cx="720252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sp" descr=""/>
          <p:cNvPicPr/>
          <p:nvPr/>
        </p:nvPicPr>
        <p:blipFill>
          <a:blip r:embed="rId1"/>
          <a:stretch/>
        </p:blipFill>
        <p:spPr>
          <a:xfrm>
            <a:off x="380880" y="2871720"/>
            <a:ext cx="4496040" cy="3054240"/>
          </a:xfrm>
          <a:prstGeom prst="rect">
            <a:avLst/>
          </a:prstGeom>
          <a:ln w="0">
            <a:noFill/>
          </a:ln>
        </p:spPr>
      </p:pic>
      <p:pic>
        <p:nvPicPr>
          <p:cNvPr id="165" name="lplogo9870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985920" cy="5033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44800" y="838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ibre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Fibre 3 (More..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5400" y="2135160"/>
          <a:ext cx="730260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135160"/>
                    <a:ext cx="73026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bcbcb"/>
                </a:solidFill>
                <a:latin typeface="Times New Roman"/>
              </a:rPr>
              <a:t>Broadband networks in Ireland</a:t>
            </a:r>
            <a:br>
              <a:rPr sz="20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general terms, the broadband networks in Ireland are organis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‘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ckbone’ network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- very high capacity fibre optical networks (telecommunications 'highways'), used to transport large quantities of information between the towns and cities connected to the network. These are managed by telecommunications operator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Local access network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o business parks, enterprises or homes - optical fibre, wireless, TV cable or upgraded telephone wi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rnational lin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elecommunications Services </a:t>
            </a:r>
            <a:r>
              <a:rPr b="0" lang="en-IE" sz="4400" spc="-1" strike="noStrike">
                <a:solidFill>
                  <a:srgbClr val="cbcbcb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720800"/>
          <a:ext cx="76057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20800"/>
                    <a:ext cx="7605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elecommunications Services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9720" y="1442880"/>
          <a:ext cx="74469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42880"/>
                    <a:ext cx="74469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elecommunications Services 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9720" y="1746360"/>
          <a:ext cx="735948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746360"/>
                    <a:ext cx="73594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ap1" descr=""/>
          <p:cNvPicPr/>
          <p:nvPr/>
        </p:nvPicPr>
        <p:blipFill>
          <a:blip r:embed="rId1"/>
          <a:stretch/>
        </p:blipFill>
        <p:spPr>
          <a:xfrm>
            <a:off x="3741840" y="0"/>
            <a:ext cx="540216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map2" descr=""/>
          <p:cNvPicPr/>
          <p:nvPr/>
        </p:nvPicPr>
        <p:blipFill>
          <a:blip r:embed="rId2"/>
          <a:stretch/>
        </p:blipFill>
        <p:spPr>
          <a:xfrm>
            <a:off x="3765600" y="0"/>
            <a:ext cx="53467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ackb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8" name="map1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3125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ap3" descr=""/>
          <p:cNvPicPr/>
          <p:nvPr/>
        </p:nvPicPr>
        <p:blipFill>
          <a:blip r:embed="rId1"/>
          <a:stretch/>
        </p:blipFill>
        <p:spPr>
          <a:xfrm>
            <a:off x="389088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3276720" cy="10666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Broadband Access</a:t>
            </a:r>
            <a:br>
              <a:rPr sz="32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map3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090960" cy="4057560"/>
          </a:xfrm>
          <a:prstGeom prst="rect">
            <a:avLst/>
          </a:prstGeom>
          <a:ln w="0">
            <a:noFill/>
          </a:ln>
        </p:spPr>
      </p:pic>
      <p:pic>
        <p:nvPicPr>
          <p:cNvPr id="142" name="map4" descr=""/>
          <p:cNvPicPr/>
          <p:nvPr/>
        </p:nvPicPr>
        <p:blipFill>
          <a:blip r:embed="rId3"/>
          <a:stretch/>
        </p:blipFill>
        <p:spPr>
          <a:xfrm>
            <a:off x="3881520" y="0"/>
            <a:ext cx="526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map5" descr=""/>
          <p:cNvPicPr/>
          <p:nvPr/>
        </p:nvPicPr>
        <p:blipFill>
          <a:blip r:embed="rId1"/>
          <a:stretch/>
        </p:blipFill>
        <p:spPr>
          <a:xfrm>
            <a:off x="3686040" y="0"/>
            <a:ext cx="54579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2971800" cy="10670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bcbcb"/>
                </a:solidFill>
                <a:latin typeface="Times New Roman"/>
              </a:rPr>
              <a:t>International Link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map5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333540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map6" descr=""/>
          <p:cNvPicPr/>
          <p:nvPr/>
        </p:nvPicPr>
        <p:blipFill>
          <a:blip r:embed="rId3"/>
          <a:stretch/>
        </p:blipFill>
        <p:spPr>
          <a:xfrm>
            <a:off x="367812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Wireless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600200"/>
          <a:ext cx="7924680" cy="48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924680" cy="4863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0" name="Soyuz_TM-spin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507960" cy="609840"/>
          </a:xfrm>
          <a:prstGeom prst="rect">
            <a:avLst/>
          </a:prstGeom>
          <a:ln w="0">
            <a:noFill/>
          </a:ln>
        </p:spPr>
      </p:pic>
      <p:pic>
        <p:nvPicPr>
          <p:cNvPr id="151" name="Soyuz_TM-spin" descr=""/>
          <p:cNvPicPr/>
          <p:nvPr/>
        </p:nvPicPr>
        <p:blipFill>
          <a:blip r:embed="rId4"/>
          <a:stretch/>
        </p:blipFill>
        <p:spPr>
          <a:xfrm>
            <a:off x="152280" y="5486400"/>
            <a:ext cx="507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23:03:41Z</dcterms:created>
  <dc:creator>J.K.Vij</dc:creator>
  <dc:description/>
  <dc:language>en-US</dc:language>
  <cp:lastModifiedBy>panovv</cp:lastModifiedBy>
  <dcterms:modified xsi:type="dcterms:W3CDTF">2000-04-01T13:59:02Z</dcterms:modified>
  <cp:revision>22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8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anovv@tcd.i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PVP\Net\Project\ThePage\Presentation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